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588-6400-4763-85DB-9AD518C6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5BB-63D5-4109-A9BE-B317999F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638-C5D9-4358-9B6F-959A293B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CB5-8852-46D9-9619-C22B3E10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E3B-3115-4428-86BF-39A46DC4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A34-2BC8-4927-A728-F2979A4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B22-D20B-4232-8C64-A551A47F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85C-B60F-42CA-93D3-3522A3AB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050-0AE8-4CBC-B214-CC919705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BEE-3627-4794-9D05-D120607B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98C-52A7-4495-933F-9765739B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BF6-DFE9-4BB8-9166-7592226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BC8F-3C71-465C-A3E4-8C41DA598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f/Horloge_Fleurie_Geneve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a/La_Rade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8/Geneva_airport_from_air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2276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Hobo Std"/>
              </a:rPr>
              <a:t>SUISSE – GENÉ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549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Hobo Std"/>
              </a:rPr>
              <a:t>MON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941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68360" y="4508640"/>
            <a:ext cx="38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alais des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4175280" cy="312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932360" y="206064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Cathédrale de San Pe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Fichier:Horloge Fleurie Gene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57360"/>
            <a:ext cx="4599000" cy="316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95280" y="5229360"/>
            <a:ext cx="417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rloge fleur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19640" y="476280"/>
            <a:ext cx="3405240" cy="520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435640" y="5927760"/>
            <a:ext cx="3959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t d'eau de Genè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3382920" cy="250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348000" cy="345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3529080" cy="2691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816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611280" y="549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Hobo Std"/>
              </a:rPr>
              <a:t>SITU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Hobo Std"/>
              </a:rPr>
              <a:t>SPAT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5399280" cy="51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156360" y="1557360"/>
            <a:ext cx="266364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thédrale de San Pedr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ardin à l'anglaise et horloge fleuri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et d'eau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ardin botaniqu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lais des Natio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. Hôtel de la Pa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762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Plan de Gené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333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Hobo Std"/>
              </a:rPr>
              <a:t>CLI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Fichier:La Ra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4176720" cy="277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2925720" cy="19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76720" y="1989000"/>
            <a:ext cx="3635640" cy="363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333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Hobo Std"/>
              </a:rPr>
              <a:t>MONNA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065400" cy="367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2276640"/>
            <a:ext cx="4962600" cy="3300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54936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Hobo Std"/>
              </a:rPr>
              <a:t>REPAS TYP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chier:Roesti.jpg"/>
          <p:cNvPicPr/>
          <p:nvPr/>
        </p:nvPicPr>
        <p:blipFill>
          <a:blip r:embed="rId1"/>
          <a:stretch/>
        </p:blipFill>
        <p:spPr>
          <a:xfrm>
            <a:off x="539640" y="1125360"/>
            <a:ext cx="3600720" cy="1989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970440" cy="234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Fichier:Marmite-Escalade.jpg"/>
          <p:cNvPicPr/>
          <p:nvPr/>
        </p:nvPicPr>
        <p:blipFill>
          <a:blip r:embed="rId3"/>
          <a:stretch/>
        </p:blipFill>
        <p:spPr>
          <a:xfrm>
            <a:off x="4932360" y="1844640"/>
            <a:ext cx="3578400" cy="410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4932360" y="609300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ONGE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284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R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1125360"/>
            <a:ext cx="41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MITE DE L´ESCAL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Fichier:Geneva airport from ai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4889520" cy="3025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537080" cy="28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9640" y="476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Hobo Std"/>
              </a:rPr>
              <a:t>TRAN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Fichier:Gare Cornavin.JPG"/>
          <p:cNvPicPr/>
          <p:nvPr/>
        </p:nvPicPr>
        <p:blipFill>
          <a:blip r:embed="rId1"/>
          <a:stretch/>
        </p:blipFill>
        <p:spPr>
          <a:xfrm>
            <a:off x="2268360" y="1341360"/>
            <a:ext cx="4969080" cy="39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3:19:51Z</dcterms:created>
  <dc:creator>Colossus User</dc:creator>
  <dc:description/>
  <dc:language>en-US</dc:language>
  <cp:lastModifiedBy>Colossus User</cp:lastModifiedBy>
  <dcterms:modified xsi:type="dcterms:W3CDTF">2011-04-12T01:13:24Z</dcterms:modified>
  <cp:revision>19</cp:revision>
  <dc:subject/>
  <dc:title>Diapositiva 1</dc:title>
</cp:coreProperties>
</file>